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1F76-416F-4D0C-AB9D-359A8616D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communications framework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04760" y="615960"/>
            <a:ext cx="4846680" cy="36352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23680" y="4500360"/>
            <a:ext cx="5198760" cy="3973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ong the vast set of requirements, this client wanted the system t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us this system needed to communicate with the already existing command and control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ramework system we built for company x has completely reusable components, allowing the team to… (should be benefit oriente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us, the application works seamlessly with their existing systems. Resulting in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B0BF-1774-45FF-BC5D-45877016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D84-0F8D-4AF4-8F82-C1F88334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040-262F-4F70-9EA5-BA92FA36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24B-757A-4547-BF1F-48D96281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6132-8588-4A6F-A4C4-CB7BACCC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11A9-411D-4B1D-80EA-FCE1BAAD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BC85-7EC2-46C1-AE0D-67686CEF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5034-7B85-4ECB-96D4-950E72C3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DCA8-337E-47CE-B26A-1104A125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C4D9-3313-4AB7-918B-5FD80BA4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0B26-ED02-4F48-9B09-2088DE9E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916-E082-46B0-9850-E8330626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2DDE-7FB3-4DB0-A0B7-83D8C239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4A11-699E-4DF5-911F-ADA9E12F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EAB1-1C2A-4EFB-B89E-E51E3001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F260-EE0D-4AC1-8461-AAFA471D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2588-982A-46B8-B033-72B689AB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799-1D6E-4EEA-A7EC-6338CC94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986-C7D5-4015-9764-6B5A49E4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B6B8-8FAB-474F-9E1C-49764D06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C3E-D155-4E71-AE1B-A527DCA3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5AE-81BE-4DD7-AAE7-1F0A3F81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B43-8227-4A3A-8500-463C52B9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B74-03A5-4EAE-B86F-A673C57D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14AC-25A0-4579-953C-BBADF8CBD2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381720"/>
            <a:ext cx="1603440" cy="43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8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D683-6FB1-49FF-9860-D88CD300563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Army’s Tactical Light Analysis System (ATLAS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stin Info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ild a message management system that parses incoming messages from various sources and databases them into meaningful for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cept incoming messages from various protocols including FTP and SMTP and store them into a user-accessible datab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tch user-defined criteria; Upon a match, notify the user by any combination of the following: email, alert box, beep and lo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olution is comprised of 3 major packages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munication Processer (CP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vides all external communication connectivit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tabase Administrator (DB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vides a common suite of database functions to all other modu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vent Manager (EVM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ndles all processing and notification of ev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my’s Tactical Light Analysis System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atlas.mdl on this C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more information visit the Austin Software Factory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ww.ausinfo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2T21:24:11Z</dcterms:created>
  <dc:creator>Internal Use</dc:creator>
  <dc:description/>
  <dc:language>en-US</dc:language>
  <cp:lastModifiedBy>Terry Quatrani</cp:lastModifiedBy>
  <dcterms:modified xsi:type="dcterms:W3CDTF">1999-03-12T02:53:37Z</dcterms:modified>
  <cp:revision>26</cp:revision>
  <dc:subject/>
  <dc:title>No Slide Title</dc:title>
</cp:coreProperties>
</file>